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D5F2-8561-417B-A4B2-9E83F536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FEE3-C039-4ECC-8D03-CFC96DD1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B8CC-49AD-452A-987A-1DF7C97B2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1D71-77B0-4DCD-920A-4D98A4AE8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B3B2-9D8B-422C-9D9D-C003DD94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548E-C499-46DF-A494-A00FA097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B658-C72E-47AB-AB2A-E054F214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853-DC4A-4358-A716-8526A9625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4170-C874-466C-817C-5EC0883F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B7F-EF08-4FC2-BA8E-7CE085C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91DC-4E00-424E-AA4E-5D917235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BEE9-F295-46F1-9B91-4D1A2C18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1C5E-BCD1-4402-86C8-FBEAEF42FD1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fuse</a:t>
            </a:r>
            <a:r>
              <a:rPr b="0" lang="zh-TW" sz="4400" spc="-1" strike="noStrike">
                <a:solidFill>
                  <a:srgbClr val="000000"/>
                </a:solidFill>
                <a:latin typeface="Calibri"/>
              </a:rPr>
              <a:t>由檔案讀取方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libri"/>
              </a:rPr>
              <a:t>準備流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. Edit the “Makefile” 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FIG_EFUSE_CONFIG_FILE=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編譯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前，請先編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k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FIG_EFUSE_CONFIG_FILE=n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改成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=y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再做編譯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動作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2. Prepare efuse MAP directory and fi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準備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預設讀取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fuse map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及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目錄裡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檔案。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fer the FileEfuseExamp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A. /system/etc/wifi/wifi_efuse.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efuse ma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alsil RF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工程師為客戶量出預設值給客戶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p file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，放進客戶系統目錄裡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B. /data/wifimac.t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iver read from this file for init wlan mac addres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由客戶系統執行亂數產生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或是由客戶申請合法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 Address</a:t>
            </a:r>
            <a:r>
              <a:rPr b="0" lang="zh-TW" sz="1700" spc="-1" strike="noStrike">
                <a:solidFill>
                  <a:srgbClr val="000000"/>
                </a:solidFill>
                <a:latin typeface="Calibri"/>
              </a:rPr>
              <a:t>產生此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ile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8T05:49:50Z</dcterms:created>
  <dc:creator>Willistang</dc:creator>
  <dc:description/>
  <dc:language>en-US</dc:language>
  <cp:lastModifiedBy>Willistang</cp:lastModifiedBy>
  <dcterms:modified xsi:type="dcterms:W3CDTF">2012-11-28T11:23:16Z</dcterms:modified>
  <cp:revision>12</cp:revision>
  <dc:subject/>
  <dc:title>PowerPoint 簡報</dc:title>
</cp:coreProperties>
</file>